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12.jpeg" ContentType="image/jpeg"/>
  <Override PartName="/ppt/media/image8.wmf" ContentType="image/x-wmf"/>
  <Override PartName="/ppt/media/image9.wmf" ContentType="image/x-wmf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1643-2C55-48BE-9D69-24DE3042E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5DFF-A51C-406D-A77E-029BE699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925D-64CE-4D5B-848A-E3CA041B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3A09-8891-4C1B-AEBE-79EA5CF24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B698-AEF5-403B-B415-2D04E89F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65A4-EAE9-4F50-B3D3-89D1FBD5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1EB4-3F6E-4917-A1C0-90DD3C7D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8226-E780-4C4C-BB8C-C82CEA7F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C8E2-154A-4E1A-A2C8-6313523C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7A6D-46AC-40F6-9A54-BEF6EC46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3868-11A6-408E-872E-43BA0618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56F3-C4B4-44E2-B302-76755121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378D-FA22-471F-A87F-BEB1F497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BD59-979B-446F-99A2-0A1E0D46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524B-968D-463E-8C63-AA6A96D0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F43B-C177-4A96-A519-F0D2D3E2E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AA0A-FC1E-4297-AB68-C3B4C0190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48B-C961-464C-B678-8151E994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5B4-96F8-44B3-8D08-2BD85A865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CCE8-9821-4349-AB51-F3B0847BF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C2D-897D-428A-9015-3E7555E7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1598-55BC-4F06-A901-B279418A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9023-693A-4AAF-8FF9-A0E9CF9B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B7A-9264-4A17-BEDF-ED4ED8FD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0957-B1C1-4636-BA16-DC7737CC2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7BA1-D1A9-4D2F-8DA5-2CB197FD2E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516" t="1920" r="7769" b="134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7200" y="53352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"/>
              </a:rPr>
              <a:t>Zach &amp; Christy Move to L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6248520"/>
            <a:ext cx="8610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b7"/>
                </a:solidFill>
                <a:latin typeface="Arial"/>
              </a:rPr>
              <a:t>Decision Modelers and Realtors: Krista, Noreen, Zach, Hayal and Susie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298520" y="1866960"/>
            <a:ext cx="708336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del Outpu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8007480" cy="1255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04920" y="3429000"/>
            <a:ext cx="4174920" cy="31338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41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Q &amp; A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295280" y="1981080"/>
            <a:ext cx="71629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ckground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h and his wife Christy are moving to Los Angeles after graduation. They are ready for a change of scenery, a bigger house, and year-round sunshi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76720" y="419112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 rot="16870200">
            <a:off x="7619040" y="1600560"/>
            <a:ext cx="887400" cy="885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3.92229E-006 C -0.13438 -0.06961 -0.26875 -0.13922 -0.40156 -0.09458 C -0.53438 -0.04995 -0.7316 0.20791 -0.79722 0.26828 E">
                                      <p:cBhvr>
                                        <p:cTn id="6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" dur="263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bjectiv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oose the dream house th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s their joint happiness given the cost, commute time, house size and charm.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ach will work in Santa Monica and Christy will work in Beverly Hill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cision Variab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bjectiv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Maximize joint utility of Zach and Chris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npu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ankings based on cost of house, commute time, size and cha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strain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commute tim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st of house (Mortgage and Remodeling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ze in square foot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harm (Age of house, Yard size, Neighborhood, etc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utpu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erfect Dream Hou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ata Sour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5 houses listed on LA real estate mark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nking Methodolo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riteria was ranked on a scale of 1-3, or a penalty of 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mortgage payment assuming $200,000 down payment and 6.5% interes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odeling cost varies from 0, $100,000 or $200,000, amortized over 30 year loan peri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te Tim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assumed that average travel speed in rush hour would be 15 MPH*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tal commute / 15 MP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1600" y="6477120"/>
            <a:ext cx="6629400" cy="7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Source: Lewis Center for Regional Studies re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Ranking Methodolo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z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r houses ranked hig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nalty assigned for houses under 1600 square fe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style of house, neighborhood, yard size, landscaping, and basic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harm Scal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3200400" cy="21222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2133720"/>
            <a:ext cx="2895840" cy="2133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53481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r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54244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066680" y="5119560"/>
            <a:ext cx="6934320" cy="228600"/>
            <a:chOff x="1066680" y="5119560"/>
            <a:chExt cx="6934320" cy="228600"/>
          </a:xfrm>
        </p:grpSpPr>
        <p:sp>
          <p:nvSpPr>
            <p:cNvPr id="126" name=""/>
            <p:cNvSpPr/>
            <p:nvPr/>
          </p:nvSpPr>
          <p:spPr>
            <a:xfrm>
              <a:off x="1066680" y="5195880"/>
              <a:ext cx="6934320" cy="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66680" y="5119560"/>
              <a:ext cx="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01000" y="5119560"/>
              <a:ext cx="0" cy="228600"/>
            </a:xfrm>
            <a:prstGeom prst="line">
              <a:avLst/>
            </a:prstGeom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Rounded MT Bold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ata Collec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90720" y="2133720"/>
            <a:ext cx="80010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21:26:11Z</dcterms:created>
  <dc:creator>Noreen Haider</dc:creator>
  <dc:description/>
  <dc:language>en-US</dc:language>
  <cp:lastModifiedBy>Noreen Haider</cp:lastModifiedBy>
  <dcterms:modified xsi:type="dcterms:W3CDTF">2008-04-25T17:57:27Z</dcterms:modified>
  <cp:revision>7</cp:revision>
  <dc:subject/>
  <dc:title>Slide 1</dc:title>
</cp:coreProperties>
</file>